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A70B-BB9B-4D5D-8F11-E43E4A662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F6B2-828C-42DE-9B85-D39C39C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3877-D963-4548-B12D-1A48B50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6E2A-ED99-4E44-BDA1-2D2EB041D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E3CB1-EB77-47F5-B36B-0B9B56406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781C8-BAB0-4F19-850E-3FC9DCC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B575C-4D7E-4BDA-8F6F-89A6830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373C-256B-4EEC-951F-A595443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EDB17-D1AC-4DCD-8FAF-BE5100A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376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095AA-3CBC-48CD-9E29-14837471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818A1-ABB2-48CA-8B30-63C3851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D2A5-EB90-407B-BF9B-B739EF6E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DF881-698B-455A-A53B-2568AF08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CC2BC-BA67-4E6B-9837-840583F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D0890-149E-4997-87CF-436F9D0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4BE29-9E98-4778-9ED7-FE3ACFE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2C08-79AE-4004-A911-41906DBEF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9B17-FFE5-4892-8F65-D914B65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99B8-443A-479F-BC11-2216917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B898-D01C-4E5F-A8A0-2C7AD3D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376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8606-AEC8-4535-BEFA-C566D807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7683-348B-47FC-BC01-E024B97A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CA75-97F2-4E08-AD9A-AE1445F7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5A49-48AD-4CF9-B11D-35CEE340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698400" indent="-26856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2" marL="1020600" indent="-214560">
              <a:spcBef>
                <a:spcPts val="1001"/>
              </a:spcBef>
              <a:buClr>
                <a:srgbClr val="b1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3" marL="1342800" indent="-214560"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4" marL="1665000" indent="-214560">
              <a:spcBef>
                <a:spcPts val="1001"/>
              </a:spcBef>
              <a:buClr>
                <a:srgbClr val="b1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5" marL="1665000" indent="-2145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6" marL="1665000" indent="-2145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6229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34694"/>
                </a:solidFill>
                <a:latin typeface="Times New Roman"/>
              </a:rPr>
              <a:t>Copyright © 2005 Brooks/Cole —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Bi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05520" y="76320"/>
            <a:ext cx="39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PTER 1 A View of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1067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8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46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346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374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34694"/>
                </a:solidFill>
                <a:latin typeface="Times New Roman"/>
              </a:rPr>
              <a:t>Copyright © 2005 Brooks/Cole —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1480" y="3808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Bi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60920" y="37944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olomon • Berg • Mart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6280" y="2201400"/>
            <a:ext cx="3257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r">
              <a:spcBef>
                <a:spcPts val="901"/>
              </a:spcBef>
              <a:buClr>
                <a:srgbClr val="0346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4694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34694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857160" algn="ctr"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3" marL="1200240" algn="ctr">
              <a:spcBef>
                <a:spcPts val="700"/>
              </a:spcBef>
              <a:buClr>
                <a:srgbClr val="0346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1542960" algn="ctr">
              <a:spcBef>
                <a:spcPts val="601"/>
              </a:spcBef>
              <a:buClr>
                <a:srgbClr val="b1006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5" marL="154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6" marL="154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34694"/>
                </a:solidFill>
                <a:latin typeface="Verdana"/>
              </a:rPr>
              <a:t>A View of Life</a:t>
            </a:r>
            <a:endParaRPr b="1" lang="en-US" sz="5400" spc="-1" strike="noStrike">
              <a:solidFill>
                <a:srgbClr val="03469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exual reproduction and sexual re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28800"/>
          <a:ext cx="35733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35733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487188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opulations evolve to better surviv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Characteristics that enhance an organism’s ability to survive in a particular environmen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ay be structural, physiological, behavioral, or a combination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5173920" cy="6540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The hierarchy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of biological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e cel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nsists of atoms and molecul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s the basic unit of lif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multicellular organisms, associates to form tissu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animals, an example is muscl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 plants, an example is epidermi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 are organized into organ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issues and organs form organ system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Popul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mbers of a species that live in the same area at the same ti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opulations that live together and interac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cosystem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 community and the environ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o carry on life processes, an organism must have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ecise instru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mmunication among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is information is coded and delivered b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hemical substanc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lectric impul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NA is the large molecule that makes up gen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Genes specify instructions for making every living organism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Watson and Crick worked out structure of DNA in 1953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DNA consists of two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chains of atoms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Verdana"/>
              </a:rPr>
              <a:t>twisted into a heli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68920" y="76320"/>
            <a:ext cx="4222800" cy="63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NA contains “recipe” for proteins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Proteins determine structure and function of cells and tissu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 Human Genome Project mapped the complete set of human gen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Genomics analyses the DNA sequence of an organism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While genomics will lead to breakthroughs in science, it also raises ethical concer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afeguarding the privacy of genetic information, for example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 multi-cellular organisms, communication with and among cells is critical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ome proteins are important in this communication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ell-to-cell communication is a complex process called cell signaling 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formation transmitted from one part of the body to another is important in regulating life processe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Information is transmitted b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Hormon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Neurotransmitters and their recepto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volution is the unifying concept of biolo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olo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Hierarchical classification sche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dentifies the approximately 1.7 million species of living organisms 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Systematics studies the diversity of organisms and their evolutionary relationship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axonomy is the science of naming and classifying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nomial system of nomenclature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veloped in the 18th century by Linnaeus, a Swedish botanis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Names and classifies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Basic unit is a speci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ach species assigned a two-part nam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Binomial system of nomenclature uses a series of taxonomic categories from species to domai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9160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ach category is 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ore general and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ore inclusive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than the one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below it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76320"/>
            <a:ext cx="4424400" cy="65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Natural selec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ory of evolution developed by Darwin and Wallac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34694"/>
                </a:solidFill>
                <a:latin typeface="Arial"/>
              </a:rPr>
              <a:t>The Origin of Species by Natural Selection</a:t>
            </a: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 published in 1859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Natural selection based on four observation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mbers of a species show variatio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rganisms produce many more offspring than will surviv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rganisms compet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Only some survive to reproduc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Living organisms composed of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Unicellula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ingle cel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ulticellula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any cells organized to form tissues, organs, and organ system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gg masses of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the wood frog—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any more 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produced than</a:t>
            </a:r>
            <a:br>
              <a:rPr sz="2400"/>
            </a:b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can survive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511956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Variation among individual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Result of different varieties of genes that code each characteristic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Ultimate source of variation is random mutatio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Chemical or physical changes in DNA that can be inherited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odifies gene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very cell of an organism requires nutrient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Certain nutrients are used as fuel for cellular respir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Virtually all cells carry on cellular respira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A self-sufficient ecosystem contains three types of organisms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oduc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composer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Ecosystems depend on continuous input of energ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Organisms can neither create energy nor use it with complete efficiency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During every energy transaction, some is lost to the environment as hea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4168800" cy="654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The scientific method involves systematic thought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ductive reasoning draws conclusions from premi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ductive reasoning begins with observations and draws conclusions or extrapolat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e scientific</a:t>
            </a:r>
            <a:br>
              <a:rPr sz="2800"/>
            </a:b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method involves</a:t>
            </a:r>
            <a:br>
              <a:rPr sz="2800"/>
            </a:b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ordered steps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3006720" cy="654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lasma membrane regulates passage of materia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pecialized molecules (usually DNA) contain genetic instru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ternal structures called organelles perform specific fun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ypes of cel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rokaryotic cells, exclusive to bacteria and microscopic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ukaryotic cells contain a variety of organelles, including a nucleus, which houses DNA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Biological growth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crease in the size of cells, the number of cells, or both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Develop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Includes all the changes that take place during an organism’s life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tructures and body form are adapted to an organism’s func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Metabolism processe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Chemical reactions and energy transformation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Essential to nutrition, growth and repair of cells, and conversion of energy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Regulation of metabolic processes maintains homeostasi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timuli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hysical or chemical changes in the internal or external environment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The organism responds to, for example, changes in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emperature, pressure, or sound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e chemical composition of soil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694"/>
                </a:solidFill>
                <a:latin typeface="Arial"/>
              </a:rPr>
              <a:t>Locomotion</a:t>
            </a:r>
            <a:endParaRPr b="0" lang="en-US" sz="40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Simpler organism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Amoeboid movement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The beating of cilia or flagella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Move by contracting muscles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99"/>
              </a:spcBef>
              <a:buClr>
                <a:srgbClr val="b10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694"/>
                </a:solidFill>
                <a:latin typeface="Arial"/>
              </a:rPr>
              <a:t>Some are sessile and have cilia or flagella</a:t>
            </a: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3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694"/>
                </a:solidFill>
                <a:latin typeface="Arial"/>
              </a:rPr>
              <a:t>Plants respond to light, water, etc.</a:t>
            </a:r>
            <a:endParaRPr b="0" lang="en-US" sz="36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9:49:11Z</dcterms:created>
  <dc:creator>R.L.Pohlman</dc:creator>
  <dc:description/>
  <dc:language>en-US</dc:language>
  <cp:lastModifiedBy>CVSD</cp:lastModifiedBy>
  <dcterms:modified xsi:type="dcterms:W3CDTF">2007-08-21T22:45:34Z</dcterms:modified>
  <cp:revision>75</cp:revision>
  <dc:subject/>
  <dc:title>The Body in Motion</dc:title>
</cp:coreProperties>
</file>